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0A04-33F4-4AF4-82F5-6F250719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1EF6-5818-4422-A9D3-DD35BF53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1BF3-A2A2-4910-A82D-30B5DA0A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B23-7070-49B1-ADCD-E9505AFB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56B-88D7-4D55-AAA0-EA983A2F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5E19-8206-499C-BF22-FC029AF4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6EF4-6AE4-4754-8AC2-DDD80806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5F99-D33B-4C71-92FE-FC4ED3CB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E012-39FA-4DEE-A42D-BE51765B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EBE3-A352-456C-AB34-D690C28C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040-EB76-4006-8610-33E8B7A6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439D-753E-42D0-A85F-2F9EABE9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A9D5-F79E-4135-845B-C79CF097E7DF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http://images.google.co.uk/imgres?imgurl=http://www.dailycal.org/images/art/10.22.FieldHockey.KATZER.jpg&amp;imgrefurl=http://www.dailycal.org/article.php%3Fid%3D6760&amp;h=300&amp;w=320&amp;sz=20&amp;hl=en&amp;start=23&amp;um=1&amp;tbnid=Tg5AriYv2RrylM:&amp;tbnh=111&amp;tbnw=118&amp;prev=/images%3Fq%3Dfield%2Bhockey%26start%3D20%26ndsp%3D20%26svnum%3D10%26um%3D1%26hl%3Den%26sa%3D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termediate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7925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Preparation of the Body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Lesson 7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ednesday 30</a:t>
            </a:r>
            <a:r>
              <a:rPr b="1" lang="en-US" sz="4000" spc="-1" strike="noStrike" baseline="30000">
                <a:solidFill>
                  <a:srgbClr val="0000ff"/>
                </a:solidFill>
                <a:latin typeface="Comic Sans MS"/>
              </a:rPr>
              <a:t>th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September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Designing a Training Pr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916280"/>
            <a:ext cx="89154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ake sure you include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ow long the programme will las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ow often she will trai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at method of training she will us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ow will you ensure she progresses over tim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936720"/>
            <a:ext cx="8534520" cy="59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  <a:ea typeface="Arial"/>
              </a:rPr>
              <a:t>You will be given a mid-block test on Wednesday 7</a:t>
            </a:r>
            <a:r>
              <a:rPr b="0" lang="en-GB" sz="2800" spc="-1" strike="noStrike" baseline="30000">
                <a:solidFill>
                  <a:srgbClr val="0000ff"/>
                </a:solidFill>
                <a:latin typeface="Comic Sans MS"/>
                <a:ea typeface="Arial"/>
              </a:rPr>
              <a:t>th</a:t>
            </a:r>
            <a:r>
              <a:rPr b="0" lang="en-GB" sz="2800" spc="-1" strike="noStrike">
                <a:solidFill>
                  <a:srgbClr val="0000ff"/>
                </a:solidFill>
                <a:latin typeface="Comic Sans MS"/>
                <a:ea typeface="Arial"/>
              </a:rPr>
              <a:t> October to assess how much you know so far.  Spend the next week reading over your notes and revising what we have covered so far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  <a:ea typeface="Arial"/>
              </a:rPr>
              <a:t>You must study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  <a:ea typeface="Arial"/>
              </a:rPr>
              <a:t>Types of fitness important in hockey (physical, mental &amp; skill related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  <a:ea typeface="Arial"/>
              </a:rPr>
              <a:t>Methods of gathering information we have used to assess performanc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  <a:ea typeface="Arial"/>
              </a:rPr>
              <a:t>Methods of training we have used to improve performanc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981080"/>
            <a:ext cx="81536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y the end of this lesson you should all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e able to name and describe a method of training to improve speed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Know the principles of training which need to be considered when designing a programme of work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e able to show how the principles of training are applied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81080"/>
            <a:ext cx="81536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y the end of this lesson you should all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e able to name and describe a method of training to improve speed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Know the principles of training which need to be considered when designing a programme of work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e able to show how the principles of training are applied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itial Tas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981080"/>
            <a:ext cx="81532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rite down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 methods of gathering informa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 methods of training to improve C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 principles of training you can change over time to improve C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verage Distance Cov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52388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38160" y="1393920"/>
          <a:ext cx="7207200" cy="47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393920"/>
                    <a:ext cx="720720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5013360"/>
            <a:ext cx="167616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p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066680"/>
            <a:ext cx="8686800" cy="57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lthough you may only sprint for around 11% of a game why do you think it is so important to have high levels of speed in hockey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tudies show that over the course of a game a player may sprint around 60 times at an average distance of 15 metres.  What implications do you think this has for speed training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peed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523880"/>
            <a:ext cx="868680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In order to improve speed we would use interval training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It is vital that after each sprint, time is give for complete muscle recovery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The work:rest ratio is 1:4 or higher.  This means that for 10 seconds rest you should get 40 seconds recovery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Interval Training (Spee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9051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xample: 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28600" y="2895480"/>
            <a:ext cx="8686440" cy="2568600"/>
            <a:chOff x="228600" y="2895480"/>
            <a:chExt cx="8686440" cy="2568600"/>
          </a:xfrm>
        </p:grpSpPr>
        <p:grpSp>
          <p:nvGrpSpPr>
            <p:cNvPr id="59" name=""/>
            <p:cNvGrpSpPr/>
            <p:nvPr/>
          </p:nvGrpSpPr>
          <p:grpSpPr>
            <a:xfrm>
              <a:off x="235800" y="2900160"/>
              <a:ext cx="8670960" cy="2558880"/>
              <a:chOff x="235800" y="2900160"/>
              <a:chExt cx="8670960" cy="255888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235800" y="2900160"/>
                <a:ext cx="2167200" cy="639720"/>
                <a:chOff x="235800" y="2900160"/>
                <a:chExt cx="2167200" cy="6397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235800" y="2900160"/>
                  <a:ext cx="2167200" cy="639720"/>
                </a:xfrm>
                <a:prstGeom prst="rect">
                  <a:avLst/>
                </a:pr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235800" y="2900160"/>
                  <a:ext cx="2166840" cy="639720"/>
                  <a:chOff x="235800" y="2900160"/>
                  <a:chExt cx="2166840" cy="639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>
                    <a:off x="341640" y="2900160"/>
                    <a:ext cx="1955520" cy="639720"/>
                  </a:xfrm>
                  <a:prstGeom prst="rect">
                    <a:avLst/>
                  </a:prstGeom>
                  <a:solidFill>
                    <a:srgbClr val="ffff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Times New Roman"/>
                      </a:rPr>
                      <a:t>REPETITI0NS</a:t>
                    </a:r>
                    <a:endParaRPr b="0" lang="en-US" sz="20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35800" y="2900160"/>
                    <a:ext cx="216684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" name=""/>
              <p:cNvGrpSpPr/>
              <p:nvPr/>
            </p:nvGrpSpPr>
            <p:grpSpPr>
              <a:xfrm>
                <a:off x="2403360" y="2900160"/>
                <a:ext cx="2167560" cy="639720"/>
                <a:chOff x="2403360" y="2900160"/>
                <a:chExt cx="2167560" cy="639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2403360" y="2900160"/>
                  <a:ext cx="2167560" cy="639720"/>
                </a:xfrm>
                <a:prstGeom prst="rect">
                  <a:avLst/>
                </a:pr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" name=""/>
                <p:cNvGrpSpPr/>
                <p:nvPr/>
              </p:nvGrpSpPr>
              <p:grpSpPr>
                <a:xfrm>
                  <a:off x="2403360" y="2900160"/>
                  <a:ext cx="2167200" cy="639720"/>
                  <a:chOff x="2403360" y="2900160"/>
                  <a:chExt cx="2167200" cy="63972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2509200" y="2900160"/>
                    <a:ext cx="1955520" cy="639720"/>
                  </a:xfrm>
                  <a:prstGeom prst="rect">
                    <a:avLst/>
                  </a:prstGeom>
                  <a:solidFill>
                    <a:srgbClr val="ffff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Times New Roman"/>
                      </a:rPr>
                      <a:t>DISTANCE</a:t>
                    </a:r>
                    <a:endParaRPr b="0" lang="en-US" sz="20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2403360" y="2900160"/>
                    <a:ext cx="21672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" name=""/>
              <p:cNvGrpSpPr/>
              <p:nvPr/>
            </p:nvGrpSpPr>
            <p:grpSpPr>
              <a:xfrm>
                <a:off x="4571640" y="2900160"/>
                <a:ext cx="2167200" cy="639720"/>
                <a:chOff x="4571640" y="2900160"/>
                <a:chExt cx="216720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4571640" y="2900160"/>
                  <a:ext cx="2167200" cy="639720"/>
                </a:xfrm>
                <a:prstGeom prst="rect">
                  <a:avLst/>
                </a:pr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" name=""/>
                <p:cNvGrpSpPr/>
                <p:nvPr/>
              </p:nvGrpSpPr>
              <p:grpSpPr>
                <a:xfrm>
                  <a:off x="4571640" y="2900160"/>
                  <a:ext cx="2166840" cy="639720"/>
                  <a:chOff x="4571640" y="2900160"/>
                  <a:chExt cx="2166840" cy="63972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4676760" y="2900160"/>
                    <a:ext cx="1956240" cy="639720"/>
                  </a:xfrm>
                  <a:prstGeom prst="rect">
                    <a:avLst/>
                  </a:prstGeom>
                  <a:solidFill>
                    <a:srgbClr val="ffff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Times New Roman"/>
                      </a:rPr>
                      <a:t>TIME</a:t>
                    </a:r>
                    <a:endParaRPr b="0" lang="en-US" sz="20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4571640" y="2900160"/>
                    <a:ext cx="216684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" name=""/>
              <p:cNvGrpSpPr/>
              <p:nvPr/>
            </p:nvGrpSpPr>
            <p:grpSpPr>
              <a:xfrm>
                <a:off x="6739200" y="2900160"/>
                <a:ext cx="2167560" cy="639720"/>
                <a:chOff x="6739200" y="2900160"/>
                <a:chExt cx="2167560" cy="63972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739200" y="2900160"/>
                  <a:ext cx="2167560" cy="639720"/>
                </a:xfrm>
                <a:prstGeom prst="rect">
                  <a:avLst/>
                </a:pr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" name=""/>
                <p:cNvGrpSpPr/>
                <p:nvPr/>
              </p:nvGrpSpPr>
              <p:grpSpPr>
                <a:xfrm>
                  <a:off x="6739200" y="2900160"/>
                  <a:ext cx="2167200" cy="639720"/>
                  <a:chOff x="6739200" y="2900160"/>
                  <a:chExt cx="2167200" cy="63972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>
                    <a:off x="6845040" y="2900160"/>
                    <a:ext cx="1955520" cy="639720"/>
                  </a:xfrm>
                  <a:prstGeom prst="rect">
                    <a:avLst/>
                  </a:prstGeom>
                  <a:solidFill>
                    <a:srgbClr val="ffff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Times New Roman"/>
                      </a:rPr>
                      <a:t>RECOVERY</a:t>
                    </a:r>
                    <a:endParaRPr b="0" lang="en-US" sz="20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6739200" y="2900160"/>
                    <a:ext cx="21672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" name=""/>
              <p:cNvGrpSpPr/>
              <p:nvPr/>
            </p:nvGrpSpPr>
            <p:grpSpPr>
              <a:xfrm>
                <a:off x="235800" y="3539880"/>
                <a:ext cx="2167200" cy="639720"/>
                <a:chOff x="235800" y="3539880"/>
                <a:chExt cx="2167200" cy="6397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41640" y="3539880"/>
                  <a:ext cx="1955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35800" y="3539880"/>
                  <a:ext cx="21672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403360" y="3539880"/>
                <a:ext cx="2167560" cy="639720"/>
                <a:chOff x="2403360" y="3539880"/>
                <a:chExt cx="2167560" cy="63972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509200" y="3539880"/>
                  <a:ext cx="1955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40m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403360" y="3539880"/>
                  <a:ext cx="2167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4571640" y="3539880"/>
                <a:ext cx="2167200" cy="639720"/>
                <a:chOff x="4571640" y="3539880"/>
                <a:chExt cx="2167200" cy="63972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4676760" y="3539880"/>
                  <a:ext cx="1956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8 secs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571640" y="3539880"/>
                  <a:ext cx="21672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739200" y="3539880"/>
                <a:ext cx="2167560" cy="639720"/>
                <a:chOff x="6739200" y="3539880"/>
                <a:chExt cx="2167560" cy="63972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845040" y="3539880"/>
                  <a:ext cx="1955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32 secs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739200" y="3539880"/>
                  <a:ext cx="2167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5800" y="4179600"/>
                <a:ext cx="2167200" cy="639720"/>
                <a:chOff x="235800" y="4179600"/>
                <a:chExt cx="2167200" cy="639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41640" y="4179600"/>
                  <a:ext cx="1955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5800" y="4179600"/>
                  <a:ext cx="21672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403360" y="4179600"/>
                <a:ext cx="2167560" cy="639720"/>
                <a:chOff x="2403360" y="4179600"/>
                <a:chExt cx="2167560" cy="639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509200" y="4179600"/>
                  <a:ext cx="1955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30m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403360" y="4179600"/>
                  <a:ext cx="2167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4571640" y="4179600"/>
                <a:ext cx="2167200" cy="639720"/>
                <a:chOff x="4571640" y="4179600"/>
                <a:chExt cx="2167200" cy="639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4676760" y="4179600"/>
                  <a:ext cx="1956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6 secs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571640" y="4179600"/>
                  <a:ext cx="21672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6739200" y="4179600"/>
                <a:ext cx="2167560" cy="639720"/>
                <a:chOff x="6739200" y="4179600"/>
                <a:chExt cx="2167560" cy="6397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6845040" y="4179600"/>
                  <a:ext cx="1955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24 secs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739200" y="4179600"/>
                  <a:ext cx="2167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35800" y="4819320"/>
                <a:ext cx="2167200" cy="639720"/>
                <a:chOff x="235800" y="4819320"/>
                <a:chExt cx="2167200" cy="6397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41640" y="4819320"/>
                  <a:ext cx="1955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35800" y="4819320"/>
                  <a:ext cx="21672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2403360" y="4819320"/>
                <a:ext cx="2167560" cy="639720"/>
                <a:chOff x="2403360" y="4819320"/>
                <a:chExt cx="2167560" cy="6397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2509200" y="4819320"/>
                  <a:ext cx="1955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20m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403360" y="4819320"/>
                  <a:ext cx="2167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4571640" y="4819320"/>
                <a:ext cx="2167200" cy="639720"/>
                <a:chOff x="4571640" y="4819320"/>
                <a:chExt cx="2167200" cy="6397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676760" y="4819320"/>
                  <a:ext cx="1956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4 secs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571640" y="4819320"/>
                  <a:ext cx="21672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6739200" y="4819320"/>
                <a:ext cx="2167560" cy="639720"/>
                <a:chOff x="6739200" y="4819320"/>
                <a:chExt cx="2167560" cy="6397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45040" y="4819320"/>
                  <a:ext cx="1955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16 secs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739200" y="4819320"/>
                  <a:ext cx="2167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" name=""/>
            <p:cNvSpPr/>
            <p:nvPr/>
          </p:nvSpPr>
          <p:spPr>
            <a:xfrm>
              <a:off x="228600" y="2895480"/>
              <a:ext cx="8686440" cy="2568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Designing a Training Pr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700280"/>
            <a:ext cx="89154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Before we start to design a training programme to improve our hockey performance we must remember the principles of training that we need to apply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Task – Write down all the principles of training you can remember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Time – 2 min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Designing a Training Pr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916280"/>
            <a:ext cx="891540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Read pages 21 and 22 in your course notes. 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n your groups create a programme of work for Jill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xplain how you have considered all of the principles of training mentioned on pages 21-22.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09-30T07:35:08Z</dcterms:modified>
  <cp:revision>47</cp:revision>
  <dc:subject/>
  <dc:title>Intermediate PE</dc:title>
</cp:coreProperties>
</file>